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048-6C21-4E00-924E-CE0952F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917-3D33-4A5E-BE70-374DC4F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33F-AEC1-4DC3-8F05-7C436F86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B72-1DDE-4755-AFB4-4D30859A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7F8-57A3-48FD-8335-77F5AE3C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99-A148-409C-B360-1F9F59B6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C6F-2520-4BB3-8682-2DD8C306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BD1-8490-457B-94C9-E227DD7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504-1740-4364-9F85-6C49BC27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F52-C15C-4268-8FDF-897E9CB1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EAE-A794-4E64-8109-41766B3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82E-B44E-48D6-8B82-CC93067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460-AA14-4D76-99F1-DAD4FB4B8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Japanese Imperi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851360" cy="3136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1000" y="5410080"/>
            <a:ext cx="31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Flag of Japanese Army and Nav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22280"/>
            <a:ext cx="7848720" cy="597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2360" y="6400800"/>
            <a:ext cx="348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myhistorymuseum.org/WWII/images/map-japan-lg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7816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02:33Z</dcterms:created>
  <dc:creator>YHS Teacher</dc:creator>
  <dc:description/>
  <dc:language>en-US</dc:language>
  <cp:lastModifiedBy>YHS Teacher</cp:lastModifiedBy>
  <dcterms:modified xsi:type="dcterms:W3CDTF">2009-05-05T13:07:51Z</dcterms:modified>
  <cp:revision>3</cp:revision>
  <dc:subject/>
  <dc:title>Japanese Imperialism</dc:title>
</cp:coreProperties>
</file>